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8BD-EAEA-43C6-8906-04DE99EC2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1A4C-3EA0-4305-B3D9-01C3CB0B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E1C-DE9D-40FC-BBCC-1CBBC972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1DDA-4ACE-4355-BB95-CC88179B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6D8E-BFB5-4BB4-A9DA-AFF68B0E3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62328-B690-4B61-82A9-FE9309A3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A793A-C58C-456B-B6F0-581DD5AA8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F278-D166-4332-AB38-0B366A9E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D684-B409-4464-AF9C-4877F1DD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729D-1937-44C2-A134-BD9D8F15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95AD-A7DC-4A7D-B902-28F0B1BE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B451-A65F-4968-BC6C-2FE24F43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DB71-EF22-45FC-967F-C3605CD9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C64D-684D-4647-A7E5-DBC74A6D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1C52-F1EA-4C27-90E9-7012B157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7195-D818-4394-B378-19DD2D1D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3488B-4818-4E1A-BAF6-271A8ABA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63D-F9D2-4634-9495-4D2AFB71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B720-0B5F-4CDC-95F3-F5A9AF6F8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8043-FCBE-4A31-B38E-3BE06BCF8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78ED-3ED2-4274-9AF4-DA3FFE80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3BAF-57C5-4B57-8088-ED7D7EFF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220-64FF-49E1-A9F9-CDAAA2349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27C-E855-4248-91E9-0BA2C7FB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6C49-FC1E-4495-992A-E9E835362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9C04-182F-4AD9-9BC5-9A826E712D4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读书1"/>
          <p:cNvPicPr/>
          <p:nvPr/>
        </p:nvPicPr>
        <p:blipFill>
          <a:blip r:embed="rId2"/>
          <a:stretch/>
        </p:blipFill>
        <p:spPr>
          <a:xfrm>
            <a:off x="3263760" y="1098720"/>
            <a:ext cx="3303720" cy="44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5200" y="1971360"/>
            <a:ext cx="7772400" cy="32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本书是李镇西老师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年班主任工作经验和教育智慧的精华集萃，全方位的阐述了他的教育观、教师观、学生观、家长观、班级管理、学生思想工作、学生心理健康教育等的理念和实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533240"/>
            <a:ext cx="58514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一、要热爱学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94800" y="2711520"/>
            <a:ext cx="7734600" cy="24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正确对待、宽容学生所犯的错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对待班上的后进生，更要给他们多一些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要经常找学生谈心，多发现他们的优点，及时地给予表扬，督促他们不断前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08080" y="1631880"/>
            <a:ext cx="8727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二、做学生的朋友，走进孩子内心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2440" y="28332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真诚关心和爱护学生，不仅在思想上、学习上、生活上等给予关心，而且要具体体现在实际行动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200520" y="1520640"/>
            <a:ext cx="61102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三、让学生当主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734760" y="2800440"/>
            <a:ext cx="744516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让学生主动参与实践，学会自我教育、自我管理，才能使学生的个性得到全面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760" y="1642680"/>
            <a:ext cx="5961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四、改变自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3112920"/>
            <a:ext cx="718668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构建良好的师生关系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结合自身的工作转变观念，加强自身修养，提高师德素养和教学能力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各位老师的聆听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4-12T04:40:35Z</dcterms:created>
  <dc:creator>asus</dc:creator>
  <dc:description/>
  <dc:language>en-US</dc:language>
  <cp:lastModifiedBy>WPS_1496647112</cp:lastModifiedBy>
  <dcterms:modified xsi:type="dcterms:W3CDTF">2021-04-12T04:41:02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</Properties>
</file>